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0B03-422A-4481-B28E-967877D2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F571-9FE3-4929-8521-976C1173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0521-AE9E-405D-82A1-C5B703AB6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C9DA-E4A3-437A-A707-2A3A3E3F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924D-B52B-494E-8CFC-1DCBAA3C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A37F-7FDD-4C83-95F1-F63CF646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199C-AC82-4CD8-A6D0-3FFF4C3D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C7F3-B4C3-4EE3-9394-0E5ACC1E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268F-0718-462D-A33A-2B7A90B1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7CD5-ADE3-46CE-AADC-F109A3C9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0F6A-6A64-4B00-A8EC-439EFDCA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E6CB-A58D-4049-952E-CAC48C13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3D4A-1CAA-4221-B0B1-A7F118A94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013600" cy="2044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2120" y="277956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0" y="2666880"/>
            <a:ext cx="43578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7964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7631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229600" cy="1105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105520" y="1600200"/>
            <a:ext cx="32763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209680"/>
            <a:ext cx="8380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22860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0800" y="2209680"/>
            <a:ext cx="7621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4762440" cy="559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7560" y="64620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79646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735516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229600" cy="603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29200" y="1828800"/>
            <a:ext cx="3200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2133720"/>
            <a:ext cx="7621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21337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96080" y="2133720"/>
            <a:ext cx="8384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5233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23:09:38Z</dcterms:created>
  <dc:creator>Graham</dc:creator>
  <dc:description/>
  <dc:language>en-US</dc:language>
  <cp:lastModifiedBy>Graham</cp:lastModifiedBy>
  <dcterms:modified xsi:type="dcterms:W3CDTF">2011-10-22T23:09:42Z</dcterms:modified>
  <cp:revision>1</cp:revision>
  <dc:subject/>
  <dc:title>Slide 1</dc:title>
</cp:coreProperties>
</file>